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FC95-DA40-4B59-AD75-C6C5FAB4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809E-FEAA-49C6-B13C-04D36191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4C0C-CDC6-4A46-973C-18E8B464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3B2E-3327-4C71-9B49-0E60FB07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2C73-F7F0-4F50-811E-8406F9F2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0584-1C5F-440E-B412-7E9737B7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A827-1A6F-4F93-B75C-6C6A06C8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9558-9CC7-4D26-B7FE-E1B65DBE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23DC-7C41-4FBC-9F3B-EB4E0CFA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9111-ACD1-4BA4-A1E4-7B05DB78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2E7F-5DBA-44C4-930A-E530C1B8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8F20-C98F-4397-B4AC-96F04FC4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20EB-8116-4C78-8180-DFD98EEE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5521-7DAE-4A67-91A5-4583953A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6ACF-795C-4D68-BF0F-A56D3D22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F4D8-F0D4-4054-9A6B-61540F47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1110-0B38-4F3B-9466-0A76D375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E899-0DBE-4E7F-BFAE-6621E9A1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5716-60A2-42AF-8102-88A3AE61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7571-B81C-46C5-8B08-12C41484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BBB3-4171-46AB-A45F-763324F7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C10E-61C5-4ABF-9B14-02756341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0F4A-D69E-462F-9E61-7450B7FD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49C9-0AE3-4830-BF72-3F33FADE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FF82-6E88-4192-857F-0AE1784851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3E96-358D-4F02-99CB-C031791778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18284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Using Exponents to Write</a:t>
            </a: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Large Number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Standard Numbe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4240" y="2971800"/>
            <a:ext cx="332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8 x 10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21160" y="29718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5040" y="3124080"/>
            <a:ext cx="6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4267080"/>
            <a:ext cx="2743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2971800"/>
            <a:ext cx="269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8,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000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Standard Numbe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71960" y="2971800"/>
            <a:ext cx="332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9 x 10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92560" y="29718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2760" y="3124080"/>
            <a:ext cx="6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4267080"/>
            <a:ext cx="2743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2971800"/>
            <a:ext cx="32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000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Standard Numbe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52840" y="2971800"/>
            <a:ext cx="332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4 x 10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9760" y="29718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59960" y="3124080"/>
            <a:ext cx="6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867280" y="4267080"/>
            <a:ext cx="2743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48520" y="2971800"/>
            <a:ext cx="198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Exponent Form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640" y="2971800"/>
            <a:ext cx="332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5 x 10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45240" y="2666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05320" y="3124080"/>
            <a:ext cx="69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4267080"/>
            <a:ext cx="419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0200" y="2971800"/>
            <a:ext cx="198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Exponent Form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05880" y="2971800"/>
            <a:ext cx="332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6 x 10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850160" y="2666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14800" y="3124080"/>
            <a:ext cx="7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76920" y="4267080"/>
            <a:ext cx="3733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971800"/>
            <a:ext cx="281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6,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000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Exponent Form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86760" y="2971800"/>
            <a:ext cx="332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9 x 10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154720" y="27432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3124080"/>
            <a:ext cx="7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05520" y="4267080"/>
            <a:ext cx="3733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2971800"/>
            <a:ext cx="342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000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Exponent Form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23360" y="2971800"/>
            <a:ext cx="332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7 x 10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618400" y="27432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52880" y="3124080"/>
            <a:ext cx="7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10080" y="426708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297180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00</a:t>
            </a: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000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495680" y="1066680"/>
            <a:ext cx="1360440" cy="1451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364040" y="0"/>
            <a:ext cx="777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For Learning to Happen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2743200"/>
            <a:ext cx="80532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ear your desk of anything that ma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stract you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move all other thoughts from you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y close attent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y all the exampl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gnore all other distract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xponents of Te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Standard Form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576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se Ten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9560" y="26668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2895480"/>
            <a:ext cx="87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9560" y="350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9560" y="42670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9560" y="51055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35812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10080" y="441972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525780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60958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8720" y="2743200"/>
            <a:ext cx="12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1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3800" y="3657600"/>
            <a:ext cx="172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1,0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11520" y="4495680"/>
            <a:ext cx="20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10,0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9240" y="5334120"/>
            <a:ext cx="241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100,0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xponents of Te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ice that the number of zer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7496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tches the exponent numb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39560" y="26668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2895480"/>
            <a:ext cx="87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39560" y="350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39560" y="42670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9560" y="51055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10080" y="35812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441972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10080" y="525780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10080" y="60958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68720" y="2743200"/>
            <a:ext cx="12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63800" y="3657600"/>
            <a:ext cx="172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1,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11520" y="4495680"/>
            <a:ext cx="20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,0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8880" y="5334120"/>
            <a:ext cx="241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0,0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ultiplying Multiples of Te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ultiply These Number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19920" y="31240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11480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19920" y="502920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5480" y="2286000"/>
            <a:ext cx="279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00 x 2 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32767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,000 x 3 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05480" y="4267080"/>
            <a:ext cx="365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0,000 x 7 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5257800"/>
            <a:ext cx="399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00,000 x 9 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19920" y="60958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8560" y="2286000"/>
            <a:ext cx="12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2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72200" y="327672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3,0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7320" y="4267080"/>
            <a:ext cx="20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70,0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21000" y="5257800"/>
            <a:ext cx="241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900,0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ultiplying Multiples of Te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914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6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d you notice that all you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6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ve to do is multiply 1 x who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6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umber &amp; add the zeros behin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9920" y="373392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44956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9920" y="548640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480" y="2895480"/>
            <a:ext cx="279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0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x 2 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37339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,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00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x 3 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05480" y="4648320"/>
            <a:ext cx="365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,000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x 7 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5562720"/>
            <a:ext cx="399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0,000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x 9 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640080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77120" y="2895480"/>
            <a:ext cx="121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373392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3,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7320" y="4648320"/>
            <a:ext cx="20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7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,0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44680" y="5562720"/>
            <a:ext cx="241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9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0,0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hort Cut for Writing Large Numb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mbine these two steps fo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riting large number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4240" y="2971800"/>
            <a:ext cx="332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6 x 10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21160" y="29718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55040" y="3124080"/>
            <a:ext cx="6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4267080"/>
            <a:ext cx="2743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97440" y="4724280"/>
            <a:ext cx="737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6 x (10 x 10) = 6 x 100 = 6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49240" y="2971800"/>
            <a:ext cx="185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hort Cut for Writing Large Numb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emember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exponent is the same as the number of zero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560" y="3352680"/>
            <a:ext cx="332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6 x 10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3440" y="32767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83640" y="3581280"/>
            <a:ext cx="6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91320" y="4724280"/>
            <a:ext cx="2743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9240" y="3352680"/>
            <a:ext cx="185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934320" y="3581280"/>
            <a:ext cx="1143000" cy="990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3352680"/>
            <a:ext cx="609480" cy="762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Standard Numbe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4240" y="2971800"/>
            <a:ext cx="332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7 x 10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21160" y="29718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5040" y="3124080"/>
            <a:ext cx="6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67280" y="4267080"/>
            <a:ext cx="2743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9240" y="2971800"/>
            <a:ext cx="185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6T04:44:18Z</dcterms:created>
  <dc:creator>Monica/Bob Yuskaitis</dc:creator>
  <dc:description/>
  <dc:language>en-US</dc:language>
  <cp:lastModifiedBy> </cp:lastModifiedBy>
  <dcterms:modified xsi:type="dcterms:W3CDTF">2008-09-08T04:32:13Z</dcterms:modified>
  <cp:revision>11</cp:revision>
  <dc:subject/>
  <dc:title>Exponents</dc:title>
</cp:coreProperties>
</file>